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43F-EF75-4C00-BA3F-6460989A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185-D9E1-4DCA-9002-A965716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4E4-88CF-48F7-B5DD-BE6570BA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411-585C-4997-BC25-A05AD78C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4FA-856C-48B6-BFC9-998BD4F2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98B-23D9-4328-9F25-2C6F7508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C1B-0DA2-4908-8224-3E589BB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893-04F5-40DD-A8BC-315CF713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DA0-FB19-4720-9343-3A1253F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B4F-8CEF-4562-82FE-F3FEEDBD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3A8-9DD3-487A-B743-069DAD1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4A1-B8F1-4502-8A18-C39245B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47FE-0788-499D-B8E7-97FDFFED13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ψ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ξ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14760" y="2513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71476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Activ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Active Other mood (ending shows that it is Aorist Active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714760" y="4637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14760" y="5402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Middle Other mood (ending shows that is it Future Middle Indic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θη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μισ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71880" y="252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7188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Middle Other Mood (ending shows that it is Aorist Middle Infini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071880" y="4622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Other Mood (ending shows that it is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071880" y="54021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νοιγ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ραπευθησ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πτισ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ιωκ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οι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25880" y="183996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139920" y="3051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46400" y="366696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Participle Masc. Sing.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146400" y="43131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157560" y="55260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σωθη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ρα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λη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λη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ρε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ημφθ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139920" y="183996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154320" y="24433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146400" y="305748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146400" y="3691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Participl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143160" y="5524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84320" y="1214280"/>
            <a:ext cx="41432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ληθη ὑπο των προφη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δουλος ἀπολυθει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ὐχαριστησ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βλεπεται ὑπο ἀγγελ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ἠρχετο εἰς τη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ειραζομενος ἐγω οὐ πιπ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ποστολοι ἀποσταλ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1984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was said by the proph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572000" y="252720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the slave was set free he gave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572000" y="36194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is seen by ang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572000" y="41846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was going into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572000" y="5272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though I am tempted I do not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4557600" y="58165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postles will be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42920" y="1000080"/>
            <a:ext cx="4530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ψαντες τα πονηρ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αχθεντα ἐφυ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ῃ τῃ ἡμερᾳ ὁ θε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ὀφ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aw will be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ld woman was carried by h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fter Jesus was arrested he sai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they called, Lord, Lord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0" y="11872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y saw the evil things which had been done they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0" y="2281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 that day God will be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32860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νομος γραφ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572000" y="3732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ἡ πρεσβυτερα (γυνη) ἠνεχθη ὑπο των υἱων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46292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ρατηθεις ὁ Ἰησους (οὐκ) εἰπεν οὐδ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72000" y="555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λησαντες∙ Κυριε, κυριε, ἐσω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500120"/>
            <a:ext cx="5143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βουληθημεν βλεψαι τον Ἰησου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ῃ τῃ ἡμερᾳ φοβηθη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πορευθην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κριθητε οὐδε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00760" y="2471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ished to see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000760" y="3189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 that day will you be afra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000760" y="3929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go into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000760" y="4667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swer nothing (‘give no answer’, ‘say nothing in repl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08:33Z</dcterms:created>
  <dc:creator>Sarah</dc:creator>
  <dc:description/>
  <dc:language>en-US</dc:language>
  <cp:lastModifiedBy>Sarah</cp:lastModifiedBy>
  <dcterms:modified xsi:type="dcterms:W3CDTF">2009-03-03T22:12:31Z</dcterms:modified>
  <cp:revision>27</cp:revision>
  <dc:subject/>
  <dc:title>Slide 1</dc:title>
</cp:coreProperties>
</file>